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1C7-A981-4012-B077-DE1D3564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BCD-85C6-4D13-90CD-FA15AB17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A5D-1B6D-4656-AA30-2D41629C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88D-0A5A-4BBF-B180-3CEEB154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42F-2102-4D86-B941-B4D3DBF3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E4B-DC87-49EA-8A60-35601850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EBE-A127-4050-8332-81676C0E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27F-29C7-479B-BF69-78123525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A15F-8214-41F9-9AD2-81EAE86A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2D1-8951-4409-896B-9798576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098-44BB-4127-837D-DBFCCE1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8CB-AF55-435A-BED2-95DEC05F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9FDF-566F-4208-BD77-EED7B8C9F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%20copier" descr=""/>
          <p:cNvPicPr/>
          <p:nvPr/>
        </p:nvPicPr>
        <p:blipFill>
          <a:blip r:embed="rId1"/>
          <a:stretch/>
        </p:blipFill>
        <p:spPr>
          <a:xfrm>
            <a:off x="0" y="-130320"/>
            <a:ext cx="9144000" cy="711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arch for a pattern of express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523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You can erase your draw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atResearch2" descr=""/>
          <p:cNvPicPr/>
          <p:nvPr/>
        </p:nvPicPr>
        <p:blipFill>
          <a:blip r:embed="rId1"/>
          <a:stretch/>
        </p:blipFill>
        <p:spPr>
          <a:xfrm>
            <a:off x="1914480" y="500040"/>
            <a:ext cx="7124760" cy="553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V="1">
            <a:off x="1600200" y="18288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5640" y="60199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oon, it will be possible to search a combination of genes from your library in which one of them has the pattern of expression you have dra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main_frame" descr=""/>
          <p:cNvPicPr/>
          <p:nvPr/>
        </p:nvPicPr>
        <p:blipFill>
          <a:blip r:embed="rId1"/>
          <a:stretch/>
        </p:blipFill>
        <p:spPr>
          <a:xfrm>
            <a:off x="2362320" y="1847880"/>
            <a:ext cx="6724440" cy="3489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0080" y="2176560"/>
            <a:ext cx="216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elect from your libra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he genes you want in y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imulation by clicking on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640" y="3044880"/>
            <a:ext cx="157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imulation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you w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562720" y="25905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320040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3200400"/>
            <a:ext cx="380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200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562720" y="31240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4640" y="3825720"/>
            <a:ext cx="145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enes selec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r th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200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39625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077320" y="32000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5238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4680" y="1241280"/>
            <a:ext cx="14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tion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85600" y="12193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perties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71760" y="1219320"/>
            <a:ext cx="15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capture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73400" y="1219320"/>
            <a:ext cx="18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ttern research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5238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90760" y="1523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28840" y="15238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0320" y="56768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unch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14800" y="5257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3720" y="5638680"/>
            <a:ext cx="24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enerate a pic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howing intera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etween selected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400440" y="52578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ints main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isualization of the proteome evolution during th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evolution_croWin1" descr=""/>
          <p:cNvPicPr/>
          <p:nvPr/>
        </p:nvPicPr>
        <p:blipFill>
          <a:blip r:embed="rId1"/>
          <a:stretch/>
        </p:blipFill>
        <p:spPr>
          <a:xfrm>
            <a:off x="152280" y="593640"/>
            <a:ext cx="891540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36720" y="1025640"/>
            <a:ext cx="33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ption : you can click on it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ke a curve disapp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0663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isualization of the proteome evolution during th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36720" y="1025640"/>
            <a:ext cx="33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ption : you can click on it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ke a curve to disap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0663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evolution_croWin2" descr=""/>
          <p:cNvPicPr/>
          <p:nvPr/>
        </p:nvPicPr>
        <p:blipFill>
          <a:blip r:embed="rId1"/>
          <a:stretch/>
        </p:blipFill>
        <p:spPr>
          <a:xfrm>
            <a:off x="152280" y="587520"/>
            <a:ext cx="8915400" cy="6264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741400" y="1022400"/>
            <a:ext cx="33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ption : you can click on it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ke a curve disapp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1360" y="1216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isualization of a draw showing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interact_graph1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interact_graph2" descr=""/>
          <p:cNvPicPr/>
          <p:nvPr/>
        </p:nvPicPr>
        <p:blipFill>
          <a:blip r:embed="rId2"/>
          <a:stretch/>
        </p:blipFill>
        <p:spPr>
          <a:xfrm>
            <a:off x="3276720" y="762120"/>
            <a:ext cx="5645160" cy="475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53560" y="5715000"/>
            <a:ext cx="42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Red arrows represent act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Blue arrows represent inhib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e genes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ropert_frame" descr=""/>
          <p:cNvPicPr/>
          <p:nvPr/>
        </p:nvPicPr>
        <p:blipFill>
          <a:blip r:embed="rId1"/>
          <a:stretch/>
        </p:blipFill>
        <p:spPr>
          <a:xfrm>
            <a:off x="0" y="609480"/>
            <a:ext cx="9074160" cy="469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52800" y="5715000"/>
            <a:ext cx="66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ick on a gene in the list, his properties will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dd a new gene in you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ataCapture_frame" descr=""/>
          <p:cNvPicPr/>
          <p:nvPr/>
        </p:nvPicPr>
        <p:blipFill>
          <a:blip r:embed="rId1"/>
          <a:stretch/>
        </p:blipFill>
        <p:spPr>
          <a:xfrm>
            <a:off x="57240" y="533520"/>
            <a:ext cx="9029520" cy="46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2760" y="5362560"/>
            <a:ext cx="855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You can add a gene by filling at least its name and its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te that « is inhibited by geneX » doesn’t mean anything in biology. We should say « is inhibited by geneX protein ». But for the moment, as we consider 1 gene gives 1 protein, it is easier for the data capture, to use genes na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arch for a pattern of express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760" y="3657600"/>
            <a:ext cx="212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ll the path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icture you w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ick on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atResearch0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6933960" cy="5384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V="1">
            <a:off x="2076480" y="4095720"/>
            <a:ext cx="285840" cy="1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5280" y="6172200"/>
            <a:ext cx="756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f you want to draw without displaying any picture, just click on displ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arch for a pattern of express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atResearch1" descr=""/>
          <p:cNvPicPr/>
          <p:nvPr/>
        </p:nvPicPr>
        <p:blipFill>
          <a:blip r:embed="rId1"/>
          <a:stretch/>
        </p:blipFill>
        <p:spPr>
          <a:xfrm>
            <a:off x="1890720" y="471600"/>
            <a:ext cx="7162920" cy="5562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6308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w you can draw a curve on the picture just by clicking with the mou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15:12:37Z</dcterms:created>
  <dc:creator>yo</dc:creator>
  <dc:description/>
  <dc:language>en-US</dc:language>
  <cp:lastModifiedBy>yo</cp:lastModifiedBy>
  <dcterms:modified xsi:type="dcterms:W3CDTF">2002-10-06T17:12:43Z</dcterms:modified>
  <cp:revision>5</cp:revision>
  <dc:subject/>
  <dc:title>Présentation PowerPoint</dc:title>
</cp:coreProperties>
</file>